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gif" ContentType="image/gif"/>
  <Override PartName="/ppt/media/image10.jpeg" ContentType="image/jpeg"/>
  <Override PartName="/ppt/media/image27.jpeg" ContentType="image/jpeg"/>
  <Override PartName="/ppt/media/image62.jpeg" ContentType="image/jpeg"/>
  <Override PartName="/ppt/media/image4.gif" ContentType="image/gif"/>
  <Override PartName="/ppt/media/image2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8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56.gif" ContentType="image/gif"/>
  <Override PartName="/ppt/media/image23.jpeg" ContentType="image/jpeg"/>
  <Override PartName="/ppt/media/image5.gif" ContentType="image/gif"/>
  <Override PartName="/ppt/media/image38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29.gif" ContentType="image/gif"/>
  <Override PartName="/ppt/media/image49.gif" ContentType="image/gif"/>
  <Override PartName="/ppt/media/image17.jpeg" ContentType="image/jpeg"/>
  <Override PartName="/ppt/media/image26.gif" ContentType="image/gif"/>
  <Override PartName="/ppt/media/image65.png" ContentType="image/png"/>
  <Override PartName="/ppt/media/image21.jpeg" ContentType="image/jpeg"/>
  <Override PartName="/ppt/media/image9.png" ContentType="image/png"/>
  <Override PartName="/ppt/media/image6.gif" ContentType="image/gif"/>
  <Override PartName="/ppt/media/image16.jpeg" ContentType="image/jpeg"/>
  <Override PartName="/ppt/media/image19.jpeg" ContentType="image/jpeg"/>
  <Override PartName="/ppt/media/image32.gif" ContentType="image/gif"/>
  <Override PartName="/ppt/media/image61.jpeg" ContentType="image/jpeg"/>
  <Override PartName="/ppt/media/image14.jpeg" ContentType="image/jpeg"/>
  <Override PartName="/ppt/media/image41.jpeg" ContentType="image/jpeg"/>
  <Override PartName="/ppt/media/image63.gif" ContentType="image/gif"/>
  <Override PartName="/ppt/media/image18.jpeg" ContentType="image/jpeg"/>
  <Override PartName="/ppt/media/image8.gif" ContentType="image/gif"/>
  <Override PartName="/ppt/media/image12.jpeg" ContentType="image/jpeg"/>
  <Override PartName="/ppt/media/image13.jpeg" ContentType="image/jpeg"/>
  <Override PartName="/ppt/media/image51.gif" ContentType="image/gif"/>
  <Override PartName="/ppt/media/image30.gif" ContentType="image/gif"/>
  <Override PartName="/ppt/media/image31.jpeg" ContentType="image/jpeg"/>
  <Override PartName="/ppt/media/image33.gif" ContentType="image/gif"/>
  <Override PartName="/ppt/media/image34.jpeg" ContentType="image/jpeg"/>
  <Override PartName="/ppt/media/image35.jpeg" ContentType="image/jpeg"/>
  <Override PartName="/ppt/media/image54.gif" ContentType="image/gif"/>
  <Override PartName="/ppt/media/image39.jpeg" ContentType="image/jpeg"/>
  <Override PartName="/ppt/media/image40.gif" ContentType="image/gif"/>
  <Override PartName="/ppt/media/image25.gif" ContentType="image/gif"/>
  <Override PartName="/ppt/media/image43.jpeg" ContentType="image/jpeg"/>
  <Override PartName="/ppt/media/image7.gif" ContentType="image/gif"/>
  <Override PartName="/ppt/media/image44.wmf" ContentType="image/x-wmf"/>
  <Override PartName="/ppt/media/image48.gif" ContentType="image/gif"/>
  <Override PartName="/ppt/media/image45.jpeg" ContentType="image/jpeg"/>
  <Override PartName="/ppt/media/image47.gif" ContentType="image/gif"/>
  <Override PartName="/ppt/media/image50.gif" ContentType="image/gif"/>
  <Override PartName="/ppt/media/image20.jpeg" ContentType="image/jpeg"/>
  <Override PartName="/ppt/media/image52.gif" ContentType="image/gif"/>
  <Override PartName="/ppt/media/image1.wmf" ContentType="image/x-wmf"/>
  <Override PartName="/ppt/media/image53.gif" ContentType="image/gif"/>
  <Override PartName="/ppt/media/image46.jpeg" ContentType="image/jpeg"/>
  <Override PartName="/ppt/media/image5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70E-57AD-47E3-BFAF-B341B287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F11-5BB6-4FC0-B2D7-1766D6DD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31C-4D82-4286-9C04-751A5D9E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176-7514-49AC-B1C6-6AAF0A82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5C6E-FBF0-4E05-9850-BE4A3934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C24-694B-4BEA-9A63-708ABAB0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D8DE-AAEB-46AC-97A4-7173F261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9AE-B6C9-4391-AF64-FD13BD1C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67C-CF42-4393-9EED-C0755BF5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26C-E844-4304-8296-2216E20C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B50-4F21-4CDE-93EB-950B9EA3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E0F-5875-4842-8BAA-1BD2F46F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BA13-F517-4C1C-A1A8-CBAF6700C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7.gif"/><Relationship Id="rId5" Type="http://schemas.openxmlformats.org/officeDocument/2006/relationships/image" Target="../media/image48.gif"/><Relationship Id="rId6" Type="http://schemas.openxmlformats.org/officeDocument/2006/relationships/image" Target="../media/image49.gif"/><Relationship Id="rId7" Type="http://schemas.openxmlformats.org/officeDocument/2006/relationships/image" Target="../media/image50.gif"/><Relationship Id="rId8" Type="http://schemas.openxmlformats.org/officeDocument/2006/relationships/image" Target="../media/image51.gif"/><Relationship Id="rId9" Type="http://schemas.openxmlformats.org/officeDocument/2006/relationships/image" Target="../media/image52.gif"/><Relationship Id="rId10" Type="http://schemas.openxmlformats.org/officeDocument/2006/relationships/image" Target="../media/image5.gif"/><Relationship Id="rId11" Type="http://schemas.openxmlformats.org/officeDocument/2006/relationships/image" Target="../media/image53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55.gif"/><Relationship Id="rId5" Type="http://schemas.openxmlformats.org/officeDocument/2006/relationships/image" Target="../media/image56.gif"/><Relationship Id="rId6" Type="http://schemas.openxmlformats.org/officeDocument/2006/relationships/image" Target="../media/image57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75;&#1086;&#1083;&#1086;&#1089;%20&#1087;&#1090;&#1080;&#1094;.wav" TargetMode="External"/><Relationship Id="rId2" Type="http://schemas.microsoft.com/office/2007/relationships/media" Target="file:///tmp/home/.config/libreoffice/4/user/gallery/&#1075;&#1086;&#1083;&#1086;&#1089;%20&#1087;&#1090;&#1080;&#1094;.wav" TargetMode="External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УТЕШЕСТВИЕ ПО ЭКОЛОГИЧЕСКОЙ ТРО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ЛЕС И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1474560" cy="181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905120" cy="1625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49417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НАБРОСАЛ   МУС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4980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410508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58920" y="62064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ПОМОГИТ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Что  такое  эколог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4942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Наш словар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«Экос»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«Логос»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ученье, нау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(в перевод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греческого язы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92720" y="1413000"/>
            <a:ext cx="3672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Baskerville Old Face"/>
              </a:rPr>
              <a:t>Экология</a:t>
            </a:r>
            <a:r>
              <a:rPr b="1" i="1" lang="en-US" sz="4400" spc="-1" strike="noStrike">
                <a:solidFill>
                  <a:srgbClr val="ff0000"/>
                </a:solidFill>
                <a:latin typeface="Baskerville Old Face"/>
              </a:rPr>
              <a:t> –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Baskerville Old Face"/>
              </a:rPr>
              <a:t>о нашем общ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Baskerville Old Face"/>
              </a:rPr>
              <a:t>доме – планете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35280" y="2349360"/>
            <a:ext cx="208908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Экология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– наука о связях между живыми существами и 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окружающей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09640" y="1866960"/>
            <a:ext cx="7992360" cy="4175280"/>
            <a:chOff x="809640" y="1866960"/>
            <a:chExt cx="7992360" cy="4175280"/>
          </a:xfrm>
        </p:grpSpPr>
        <p:cxnSp>
          <p:nvCxnSpPr>
            <p:cNvPr id="103" name="_s34821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786640" y="2554920"/>
              <a:ext cx="835560" cy="27979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34822"/>
            <p:cNvCxnSpPr>
              <a:stCxn id="107" idx="0"/>
              <a:endCxn id="105" idx="2"/>
            </p:cNvCxnSpPr>
            <p:nvPr/>
          </p:nvCxnSpPr>
          <p:spPr>
            <a:xfrm flipV="1">
              <a:off x="4806000" y="3536280"/>
              <a:ext cx="2880" cy="83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34823"/>
            <p:cNvCxnSpPr>
              <a:stCxn id="109" idx="0"/>
              <a:endCxn id="105" idx="2"/>
            </p:cNvCxnSpPr>
            <p:nvPr/>
          </p:nvCxnSpPr>
          <p:spPr>
            <a:xfrm flipH="1" flipV="1" rot="5400000">
              <a:off x="2989440" y="2555280"/>
              <a:ext cx="835560" cy="27979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34824"/>
            <p:cNvSpPr/>
            <p:nvPr/>
          </p:nvSpPr>
          <p:spPr>
            <a:xfrm>
              <a:off x="3606840" y="186696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Экологическ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связ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4825"/>
            <p:cNvSpPr/>
            <p:nvPr/>
          </p:nvSpPr>
          <p:spPr>
            <a:xfrm>
              <a:off x="8096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4826"/>
            <p:cNvSpPr/>
            <p:nvPr/>
          </p:nvSpPr>
          <p:spPr>
            <a:xfrm>
              <a:off x="36068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4827"/>
            <p:cNvSpPr/>
            <p:nvPr/>
          </p:nvSpPr>
          <p:spPr>
            <a:xfrm>
              <a:off x="640440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86920" y="4581360"/>
              <a:ext cx="1584360" cy="57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жи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116000" y="5300640"/>
            <a:ext cx="170640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еж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4581360"/>
            <a:ext cx="1584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ж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4869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4869000"/>
            <a:ext cx="287640" cy="576000"/>
          </a:xfrm>
          <a:custGeom>
            <a:avLst/>
            <a:gdLst>
              <a:gd name="textAreaLeft" fmla="*/ 38520 w 287640"/>
              <a:gd name="textAreaRight" fmla="*/ 249120 w 28764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4508640"/>
            <a:ext cx="180000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229360"/>
            <a:ext cx="1728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216000" cy="57492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440 h 574920"/>
              <a:gd name="textAreaBottom" fmla="*/ 41688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4941720"/>
            <a:ext cx="216000" cy="646200"/>
          </a:xfrm>
          <a:custGeom>
            <a:avLst/>
            <a:gdLst>
              <a:gd name="textAreaLeft" fmla="*/ 28800 w 216000"/>
              <a:gd name="textAreaRight" fmla="*/ 187200 w 21600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4508640"/>
            <a:ext cx="172692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300640"/>
            <a:ext cx="17067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4941720"/>
            <a:ext cx="216000" cy="648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32720" y="486900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993080" cy="5994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048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451640" y="3789360"/>
            <a:ext cx="771480" cy="928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236000" y="4653000"/>
            <a:ext cx="129672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187280" y="4365720"/>
            <a:ext cx="863640" cy="834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1476360" y="1916280"/>
            <a:ext cx="1008000" cy="976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419640" y="5013360"/>
            <a:ext cx="1390320" cy="1209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2411280" y="1341360"/>
            <a:ext cx="792360" cy="65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3995640" y="177336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6084720" y="3860640"/>
            <a:ext cx="166716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177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177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649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68360" y="2781360"/>
            <a:ext cx="5616720" cy="50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3284640"/>
            <a:ext cx="475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3789360"/>
            <a:ext cx="475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4437000"/>
            <a:ext cx="395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5013360"/>
            <a:ext cx="790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5013360"/>
            <a:ext cx="15127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453360"/>
            <a:ext cx="79200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2276640"/>
            <a:ext cx="72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0" y="220500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170028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119700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20000" y="692280"/>
            <a:ext cx="865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 rot="10800000">
            <a:off x="7018920" y="189000"/>
            <a:ext cx="86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0" y="1197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1197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134136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78136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551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59500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851280" y="2565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2781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2000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2852640"/>
            <a:ext cx="6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11280" y="2852640"/>
            <a:ext cx="5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55840" y="2852640"/>
            <a:ext cx="36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24360" y="2349360"/>
            <a:ext cx="5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7280" y="2852640"/>
            <a:ext cx="43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2852640"/>
            <a:ext cx="50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7840" y="1197000"/>
            <a:ext cx="36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1197000"/>
            <a:ext cx="43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18360" y="857160"/>
            <a:ext cx="1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20000" y="189000"/>
            <a:ext cx="64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29280" y="23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17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30760" y="2409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9000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53640" y="6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26028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726920" cy="2087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812000" y="3645000"/>
            <a:ext cx="10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300720" y="5516640"/>
            <a:ext cx="1943280" cy="1096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50920" y="5013360"/>
            <a:ext cx="1760400" cy="1360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8172360" y="404640"/>
            <a:ext cx="69552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2987640" y="260280"/>
            <a:ext cx="172872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160360" cy="3240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4529160" cy="3254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050920" y="3284640"/>
            <a:ext cx="273708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724360" y="4653000"/>
            <a:ext cx="3024360" cy="198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1979640" y="1125360"/>
            <a:ext cx="2736720" cy="2016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250920" y="4869000"/>
            <a:ext cx="158436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8"/>
                </p:tgtEl>
              </p:cMediaNode>
            </p:audio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02280" cy="5851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940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08720" y="4941720"/>
            <a:ext cx="1152720" cy="148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796000" y="263700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300720" y="836640"/>
            <a:ext cx="666720" cy="88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851280" y="4508640"/>
            <a:ext cx="2449440" cy="201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124000" y="5589720"/>
            <a:ext cx="714600" cy="64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55640" y="83664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732720" y="1197000"/>
            <a:ext cx="1152360" cy="95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7956720" y="907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177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364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02280" cy="604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755640" y="3357720"/>
            <a:ext cx="763272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302436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03640" y="3284640"/>
            <a:ext cx="295272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3440" y="3284640"/>
            <a:ext cx="285444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300720" y="3284640"/>
            <a:ext cx="273384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42920" y="189000"/>
            <a:ext cx="284472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300720" y="189000"/>
            <a:ext cx="267516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3040" y="260280"/>
            <a:ext cx="24973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2592360" cy="2768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132000" y="260280"/>
            <a:ext cx="278136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7115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348000" y="3786120"/>
            <a:ext cx="2448000" cy="2738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300720" y="3789360"/>
            <a:ext cx="2592360" cy="2735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1116000" y="2133720"/>
            <a:ext cx="3097080" cy="230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932360" y="2133720"/>
            <a:ext cx="3166920" cy="230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1325520"/>
            <a:ext cx="4824720" cy="3327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227640" y="4437000"/>
            <a:ext cx="2627280" cy="205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227640" y="549360"/>
            <a:ext cx="2376720" cy="1741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473640" cy="4970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3280" y="2349360"/>
            <a:ext cx="424836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867280" y="357336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050920" y="3716280"/>
            <a:ext cx="1476360" cy="1657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95480" y="333360"/>
            <a:ext cx="67896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ВЫРУБИЛ  ЛЕ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31928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308720" y="1268280"/>
            <a:ext cx="151308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352000" y="692280"/>
            <a:ext cx="792000" cy="1334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0920" y="5013360"/>
            <a:ext cx="1368360" cy="1844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5640" y="18900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РАЗВЁЛ КОСТ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4788000" y="3645000"/>
            <a:ext cx="417672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396108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95280" y="3716280"/>
            <a:ext cx="3816360" cy="280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200560" y="4024440"/>
            <a:ext cx="325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40244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ГРЯЗНИЛ</a:t>
            </a:r>
            <a:br>
              <a:rPr sz="40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ОДОЁ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РАВИЛ ВОЗДУ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9607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388764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42920" y="5229360"/>
            <a:ext cx="1952640" cy="100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45:09Z</dcterms:created>
  <dc:creator>USER</dc:creator>
  <dc:description/>
  <dc:language>en-US</dc:language>
  <cp:lastModifiedBy>ольга</cp:lastModifiedBy>
  <dcterms:modified xsi:type="dcterms:W3CDTF">2010-01-16T19:18:18Z</dcterms:modified>
  <cp:revision>19</cp:revision>
  <dc:subject/>
  <dc:title>Слайд 1</dc:title>
</cp:coreProperties>
</file>